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1C2-D68A-4B15-9A54-6221ABE5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1CA-312C-40E9-8133-787B2E6D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0AE-5900-4393-B0FE-19AFE71D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E84-5A58-43AB-A8E6-7F53322E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1884-8723-4C23-BBF7-BA84FFC0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63B7-EB31-4D1A-A57E-E01BF233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7349-F63A-4AEF-9F22-D1E4A408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C9EE-125E-4DFE-A5BF-8DA8CFC6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3CDF-6A25-4F36-A0E5-5BE9CB6C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C6F7-D8CA-4364-9F74-39E0DDF4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9308-F3AD-43BE-86C3-E18D191B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AB5-4F71-4210-A952-132BE856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CD7E-FDB3-4B14-9D7D-2C97F771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0CE7-6CE7-4E51-BBFE-B5C554D9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3942-E5B0-4B88-A62D-90FA1142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0C42-48FF-4C6F-A99A-8998A344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1F5C-C485-4AEA-9CE4-9F0438EC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0C0-C844-4F33-870B-ADC18E64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9A3-B46E-4727-8E84-CA462381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B71-384B-445F-84A8-249DDA99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1633-ECF3-431E-B0A5-FC4B742C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920-BFDA-427C-B456-483FE09D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AF2-2F4A-417C-87E7-1202A817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6C3-57BA-4234-98F7-C52C1AE7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5D6C-E4E3-4515-8866-15EBE6E34B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47F8-330F-4B3D-9702-7B650B6BAD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85920" y="27734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MIERZENIE KĄTÓW. MIARA KĄ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OMIERZ – PRZYRZĄD DO MIERZENI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5184720"/>
            <a:ext cx="60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stawową jednostką miary je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stopie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 symbolicznie zapisujemy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22360" y="1938240"/>
            <a:ext cx="4770720" cy="297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46280" y="4869000"/>
            <a:ext cx="41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amar.waw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IARY 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71640" y="1390680"/>
            <a:ext cx="3286080" cy="203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246480"/>
            <a:ext cx="3014640" cy="1749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27000" y="5037120"/>
            <a:ext cx="2835360" cy="1820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85920" y="104292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ra kąta prost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46640" y="284328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ra kąta ostr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468936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ra kąta rozwart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62360" y="5543640"/>
            <a:ext cx="53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ątomierzem zmierzono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ąt 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      Przy mierzeniu kąta skorzystano z podziałki wewnętrznej.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jest równa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30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co symbolicznie zapisujemy: </a:t>
            </a: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|</a:t>
            </a:r>
            <a:r>
              <a:rPr b="1" lang="en-US" sz="1200" spc="-1" strike="noStrike">
                <a:solidFill>
                  <a:srgbClr val="6600ff"/>
                </a:solidFill>
                <a:latin typeface="Symbol"/>
                <a:ea typeface="Symbol"/>
              </a:rPr>
              <a:t></a:t>
            </a: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| = 130</a:t>
            </a:r>
            <a:r>
              <a:rPr b="1" lang="en-US" sz="1200" spc="-1" strike="noStrike">
                <a:solidFill>
                  <a:srgbClr val="6600ff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808280"/>
            <a:ext cx="40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ątomierzem zmierzono ką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pros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ara kąta prostego jest równa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90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6640" y="3743280"/>
            <a:ext cx="49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ątomierzem zmierzono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ąt 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zy mierzeniu kąta skorzystano z podziałki zewnętrznej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jest równa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co symbolicznie zapisujemy: </a:t>
            </a: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|</a:t>
            </a:r>
            <a:r>
              <a:rPr b="1" lang="en-US" sz="1200" spc="-1" strike="noStrike">
                <a:solidFill>
                  <a:srgbClr val="6600ff"/>
                </a:solidFill>
                <a:latin typeface="Symbol"/>
                <a:ea typeface="Symbol"/>
              </a:rPr>
              <a:t></a:t>
            </a: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| = 30</a:t>
            </a:r>
            <a:r>
              <a:rPr b="1" lang="en-US" sz="1200" spc="-1" strike="noStrike">
                <a:solidFill>
                  <a:srgbClr val="6600ff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85920" y="1989000"/>
            <a:ext cx="70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streg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st większa o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mniejsza o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85920" y="3032280"/>
            <a:ext cx="58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steg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st rów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85920" y="396864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zwarteg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st większa o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mniejsza o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44:06Z</dcterms:modified>
  <cp:revision>10</cp:revision>
  <dc:subject/>
  <dc:title>Slajd 1</dc:title>
</cp:coreProperties>
</file>